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A41-2407-4344-ACEA-18CD8AB9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F70-BFDC-401D-BEBC-A14D54DD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A3F-173D-4469-B9FD-DD640F52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673-2653-4349-AB2E-C5AAB06A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AD1-33BA-4F6D-8FB1-A732D71C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F49-0184-4927-A1A8-2472D36A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04C-EC25-44AE-97C5-727930BC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1BE-D101-4F5E-A91C-BCB4F25B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647-93CE-4F14-BAA1-8C461F4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253-064A-4556-BC11-768CBD9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8EE-FA65-4BE6-BF01-F32229A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D70-D6CB-444D-9729-37DC7F40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EC0-03C8-4E84-AAE8-A61BFB4E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9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el trabajo del año pas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with the appropriat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__________________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, queremos ir al 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¿__________________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riero jugar, no estud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¿__________________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ezamos a jugar a las o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¿__________________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quiero jugar con 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0481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uieren (ustedes) ir al par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40384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fieres jugar o estud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952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ando empiezan (ustedes) a j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8672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uieres jugar con el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El origen del españ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español es una combinación d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tí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árab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¿Por qué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 Real Academia de la Lengua Español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una sociedad de intelectuales que decide las reglas del idioma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3693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6:41:08Z</dcterms:created>
  <dc:creator>Helen Zumaeta</dc:creator>
  <dc:description/>
  <dc:language>en-US</dc:language>
  <cp:lastModifiedBy>Helen Zumaeta</cp:lastModifiedBy>
  <dcterms:modified xsi:type="dcterms:W3CDTF">2012-09-19T19:25:32Z</dcterms:modified>
  <cp:revision>10</cp:revision>
  <dc:subject/>
  <dc:title>Me llamo _________ Clase 6nh/il La fecha es el 4 de mayo del 2011</dc:title>
</cp:coreProperties>
</file>